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1671-DA6F-4CFD-BCF5-DECA165ED6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 Westw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9er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to Californi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ove Westwar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are attacked by groups called “nativis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hood for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omes a state in 18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enters as a free state in the 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atehood for Califor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is discovered in 1848 on Sutter’s sawmi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easons for the Gold Rush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s believe in Manifest Desti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ypical miner locates gold flakes not gold nug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49er’s arrived to California they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 from criminals, Indian attacks and dangerou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work and exhau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omfortable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s have to contend with high prices, gamblers and cri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come are from South America, Mexico, Europe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873-C51C-4928-8DDB-203603D3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B48-693E-4DE3-A870-105506BB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D1E-65BC-40CF-A5F7-113CDBC7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8BE-8ABD-4C3F-8EB2-80B577B6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5EB8-D702-4A04-B803-818AD157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C1A3-C6C0-4CDF-BFE0-C999E677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1280-F2BC-4713-9BB5-789943C8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11B1-3E44-497D-904B-E2331034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75F8-8A97-4A21-AB71-C9ED6004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E7B2-BD26-459C-9166-86DDC2F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42E3-28FF-4F88-9DD4-F5E9E93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9DA-9D8B-4FE8-B08A-35C3DA76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A40B-01CC-4C7C-B172-3030C15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56F5-04AB-4CB6-89FB-E38C2E92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B330-CDF9-4A1A-93B1-18E13242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363A-949E-4935-BCE9-FB9ADE15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E613-FEC5-41AE-A17E-2C6FF8CD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A08-27E4-40E4-8170-4E1E6CB8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CEF-DA55-4C9B-A1BE-C7804473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BE4-38B9-47F6-A1E8-40C17A0E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361-28C2-4F81-98C1-9D7E19F0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6B4-89A8-4FBD-9593-EF2F61F4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730-7C1C-4234-89ED-ADB7FB43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0CE-D4A6-42C6-A6E9-ED28BB1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FA79-7443-4648-A070-3227AB5DE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CFBD-71AC-4264-9472-CACB8CA4CBD9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ove Westwar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Picture 11" descr="http://www.pbs.org/weta/thewest/resources/archives/images/wimg630/oc52mnrs.gif"/>
          <p:cNvPicPr/>
          <p:nvPr/>
        </p:nvPicPr>
        <p:blipFill>
          <a:blip r:embed="rId1"/>
          <a:stretch/>
        </p:blipFill>
        <p:spPr>
          <a:xfrm>
            <a:off x="4876920" y="2057400"/>
            <a:ext cx="358128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438200" y="1166760"/>
            <a:ext cx="6269040" cy="4525920"/>
            <a:chOff x="1438200" y="1166760"/>
            <a:chExt cx="6269040" cy="4525920"/>
          </a:xfrm>
        </p:grpSpPr>
        <p:sp>
          <p:nvSpPr>
            <p:cNvPr id="206" name="Rectangle 5"/>
            <p:cNvSpPr/>
            <p:nvPr/>
          </p:nvSpPr>
          <p:spPr>
            <a:xfrm>
              <a:off x="1438200" y="116676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438200" y="116676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1436760" y="1165320"/>
            <a:ext cx="6269040" cy="4525920"/>
            <a:chOff x="1436760" y="1165320"/>
            <a:chExt cx="6269040" cy="4525920"/>
          </a:xfrm>
        </p:grpSpPr>
        <p:sp>
          <p:nvSpPr>
            <p:cNvPr id="209" name="Rectangle 9"/>
            <p:cNvSpPr/>
            <p:nvPr/>
          </p:nvSpPr>
          <p:spPr>
            <a:xfrm>
              <a:off x="1436760" y="116532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436760" y="116532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1" name="Picture 11" descr="http://immigrants.harpweek.com/ChineseAmericans/Illustrations/images/0219w500.jpg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2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352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9" descr="http://immigrants.harpweek.com/ChineseAmericans/Illustrations/images/1221w775.jpg"/>
          <p:cNvPicPr/>
          <p:nvPr/>
        </p:nvPicPr>
        <p:blipFill>
          <a:blip r:embed="rId1"/>
          <a:stretch/>
        </p:blipFill>
        <p:spPr>
          <a:xfrm>
            <a:off x="4952880" y="304920"/>
            <a:ext cx="3810240" cy="632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12" descr="http://immigrants.harpweek.com/ChineseAmericans/Illustrations/images/1600w500.jpg"/>
          <p:cNvPicPr/>
          <p:nvPr/>
        </p:nvPicPr>
        <p:blipFill>
          <a:blip r:embed="rId2"/>
          <a:stretch/>
        </p:blipFill>
        <p:spPr>
          <a:xfrm>
            <a:off x="457200" y="304920"/>
            <a:ext cx="4114800" cy="631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hood for Califor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http://rds.yahoo.com/S=96062883/K=california+flag/v=2/SID=e/l=IVS/SIG=122dnipd7/EXP=1112164871/*-http%3A//www.workmall.com/amazon/california3.jpg"/>
          <p:cNvPicPr/>
          <p:nvPr/>
        </p:nvPicPr>
        <p:blipFill>
          <a:blip r:embed="rId1"/>
          <a:srcRect l="0" t="0" r="0" b="6002"/>
          <a:stretch/>
        </p:blipFill>
        <p:spPr>
          <a:xfrm>
            <a:off x="4572000" y="20574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7" descr="http://rds.yahoo.com/S=96062883/K=sutter%27s+mill/v=2/SID=e/l=IVS/SIG=12spr2q3q/EXP=1112161566/*-http%3A//www.books-about-california.com/Images/California_Romantic/Sutter's_Mill.jpg"/>
          <p:cNvPicPr/>
          <p:nvPr/>
        </p:nvPicPr>
        <p:blipFill>
          <a:blip r:embed="rId1"/>
          <a:srcRect l="4000" t="1774" r="4000" b="13212"/>
          <a:stretch/>
        </p:blipFill>
        <p:spPr>
          <a:xfrm>
            <a:off x="4800600" y="2133720"/>
            <a:ext cx="373392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7" descr="California Gold Rush"/>
          <p:cNvPicPr/>
          <p:nvPr/>
        </p:nvPicPr>
        <p:blipFill>
          <a:blip r:embed="rId1"/>
          <a:stretch/>
        </p:blipFill>
        <p:spPr>
          <a:xfrm>
            <a:off x="4952880" y="2057400"/>
            <a:ext cx="36576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7" descr="http://www.goldrush.com/~joann/women1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http://rds.yahoo.com/S=96062883/K=california+gold+rush+pictures/v=2/SID=e/l=IVI/SIG=121f91lv7/EXP=1112163156/*-http%3A//www.quiknet.com/~class/sundaymines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8320" y="2133720"/>
            <a:ext cx="38098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7" descr="http://rds.yahoo.com/S=96062883/K=old+panning/v=2/SID=e/l=IVS/SIG=12g0rhktv/EXP=1112163584/*-http%3A//homepages.wmich.edu/~r6bigelo/old%20boy%20panning.jpg"/>
          <p:cNvPicPr/>
          <p:nvPr/>
        </p:nvPicPr>
        <p:blipFill>
          <a:blip r:embed="rId1"/>
          <a:stretch/>
        </p:blipFill>
        <p:spPr>
          <a:xfrm>
            <a:off x="5089680" y="1981080"/>
            <a:ext cx="2925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http://www.legendsofamerica.com/photos-oldwest/CaliforniaGambling1894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7" descr="Chinese Census"/>
          <p:cNvPicPr/>
          <p:nvPr/>
        </p:nvPicPr>
        <p:blipFill>
          <a:blip r:embed="rId1"/>
          <a:stretch/>
        </p:blipFill>
        <p:spPr>
          <a:xfrm>
            <a:off x="4876920" y="2133720"/>
            <a:ext cx="365760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11" descr="http://www.newton.mec.edu/Angier/DimSum/dimsumimages/newphotos/2chinese_panner400.jpg"/>
          <p:cNvPicPr/>
          <p:nvPr/>
        </p:nvPicPr>
        <p:blipFill>
          <a:blip r:embed="rId1"/>
          <a:srcRect l="8001" t="3963" r="3997" b="4953"/>
          <a:stretch/>
        </p:blipFill>
        <p:spPr>
          <a:xfrm>
            <a:off x="4952880" y="2209680"/>
            <a:ext cx="3657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3:08:41Z</dcterms:created>
  <dc:creator>Preferred Customer</dc:creator>
  <dc:description/>
  <dc:language>en-US</dc:language>
  <cp:lastModifiedBy>Legion</cp:lastModifiedBy>
  <dcterms:modified xsi:type="dcterms:W3CDTF">2017-07-05T13:22:14Z</dcterms:modified>
  <cp:revision>17</cp:revision>
  <dc:subject/>
  <dc:title>The Move Westward</dc:title>
</cp:coreProperties>
</file>